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338-09A6-45E2-979D-C12C0B9E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471-D9A0-4373-86A4-4FECB2AF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F53-D768-4FE1-ADD2-C1F8FD9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8E7-0A54-445A-AAA2-9BB9FDDE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3B6-7144-460F-87A4-E9001E40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A23-F448-4374-81EA-44B00BF9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C06-F4AC-4650-9572-93AD0E3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CF6-4779-4193-842D-5D911FF9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08B-3725-4D6E-A62D-3B8DCBF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116-68FA-47E5-8DBB-F5B738A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D6D-B7E9-4DAF-A355-925A0FE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F5F-C694-46A9-8A44-6DA9EFE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EECF-1A44-44F1-9B87-F1EF00F1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name and a picture goes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poweruser</cp:lastModifiedBy>
  <dcterms:modified xsi:type="dcterms:W3CDTF">2011-12-14T16:07:15Z</dcterms:modified>
  <cp:revision>1</cp:revision>
  <dc:subject/>
  <dc:title>Chapter 5 – India Vocabulary</dc:title>
</cp:coreProperties>
</file>